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BC7-C22F-4BFD-A54F-DAF936FF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B3B-CE5D-46FF-83DE-F4A2D639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E97-F328-49D1-A677-8631207E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49B-1AD2-4792-8B8D-44A33042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03F-9793-49A6-B7CD-C55DC3E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2A7-F316-4C09-AE33-D1FEF28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B10-2C01-47B5-8B81-E7AA501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E1F-181D-4472-AF86-147F0113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BF8-2606-4DBF-8A3E-26E1786F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B54-336A-442E-AC28-1FFB065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72E-3F2F-4F31-93FB-319953D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762-D01B-4B88-8D1C-8290D07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2F9-F1FD-4D37-BBC3-0692CC34CA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TALLER DE METODOLOGÍA DEL APRENDIZ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T.G.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9194d"/>
                </a:solidFill>
                <a:latin typeface="BatangChe"/>
                <a:ea typeface="BatangChe"/>
              </a:rPr>
              <a:t>TRABAJO DE PASAJE DE CURSO:</a:t>
            </a:r>
            <a:br>
              <a:rPr sz="3600"/>
            </a:br>
            <a:r>
              <a:rPr b="1" lang="es-ES" sz="3600" spc="-1" strike="noStrike">
                <a:solidFill>
                  <a:srgbClr val="19194d"/>
                </a:solidFill>
                <a:latin typeface="BatangChe"/>
                <a:ea typeface="BatangChe"/>
              </a:rPr>
              <a:t>ASPECTOS FORM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572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HOJA: 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ARIAL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ESPACIO: 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MÁRGENES: 2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NÚMERO DE PÁGINAS DEL TRABAJO: 3 (Aproxim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FERENCIAS Y CITAS AL F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SUMEN (50 PALAB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PALABRAS CLAV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	</a:t>
            </a: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ESTRUC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S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PALABRAS CL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CARÁTULA( título  y datos pers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BatangChe"/>
                <a:ea typeface="BatangChe"/>
              </a:rPr>
              <a:t>TRABAJO DE PASAJE DE CURSO:</a:t>
            </a:r>
            <a:br>
              <a:rPr sz="3600"/>
            </a:br>
            <a:r>
              <a:rPr b="1" lang="es-ES" sz="3600" spc="-1" strike="noStrike">
                <a:solidFill>
                  <a:srgbClr val="990000"/>
                </a:solidFill>
                <a:latin typeface="BatangChe"/>
                <a:ea typeface="BatangChe"/>
              </a:rPr>
              <a:t>ASPECTOS ACADÉ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PROPUE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Realizar un trabajo crítico, reflexivo, individual y personal sob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Técnicas y Herramientas aprendidas en el cu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Conceptos, metodologías y autores incorporados: su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Procesos emocionales y afectivos que pueden incidir en la subjetividad y en el desempeñ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5:44:23Z</dcterms:created>
  <dc:creator>Cristina Heuguerot</dc:creator>
  <dc:description/>
  <dc:language>en-US</dc:language>
  <cp:lastModifiedBy>Colonia</cp:lastModifiedBy>
  <dcterms:modified xsi:type="dcterms:W3CDTF">2010-08-04T20:32:55Z</dcterms:modified>
  <cp:revision>2</cp:revision>
  <dc:subject/>
  <dc:title>TALLER DE METODOLOGÍA DEL APRENDIZAJE</dc:title>
</cp:coreProperties>
</file>